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2.pct" ContentType="image/x-pict"/>
  <Override PartName="/ppt/media/image1.png" ContentType="image/png"/>
  <Override PartName="/ppt/media/image9.png" ContentType="image/png"/>
  <Override PartName="/ppt/media/image10.pct" ContentType="image/x-pict"/>
  <Override PartName="/ppt/media/image22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DE4A-671E-46EB-8238-9D501E4C8C5D}" type="slidenum">
              <a:rPr b="0" lang="en-US" sz="1200" spc="-1" strike="noStrike">
                <a:solidFill>
                  <a:srgbClr val="ffe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 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 would like to talk about some results from local hel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say a little bit about the meridional flow, far-side imaging, and sunspots seism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ertainly not the complete list of what has been done with local helioseismology; but just a few high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: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ridional flow at the surface has been known for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giles used time-distance helioseismology to make the first detection of the subsurface meridional flow in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simple model for meridional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meridional flow as function of depth, latitude 32 deg north and south.  Assume mass conservation, not direct detection. Estimates say 2 m/s flow at base of convection zone is detectable with about one solar cycle of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seen by standard global-mode helioseismology.  Meridional flow is a second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in normal-mode frequencies.  Causes first-order changes in eigenfunctions, so hopefully could be measured that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: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look at the variations in the meridional flow with the solar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gures shows the residuals in the meridional flow as a function of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have been extrapolated to the right of the white line assuming eleven year period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ck line is the mean latitude of activity.  So what we see is that there is a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ridional flow that is converging towards the mean latitude of activity, and that this converging flow follows the mean latitude of activity as it drifts equator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-hand panel shows the analagous residuals in the the zonal flow.  These also follow the mean latitude of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easurements are presumably telling us about the relationship between the magnetic fields and large-scale 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side imaging was first shown in 2000 by Lindsey and Bra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s the technique of helioseismic holography, which is a lot like time-distance helioseism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is to use measurements of acoustic waves on the front side of the Sun to detect active regions on the far side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ray geometry.  Suppose you want to look at a focus point on the farside of the sun, this can be done by looking at 3-skip ray paths, where the central skip is into the focus point.  It turns out that by mapping the total wave travel-times, you can see active reg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set of far-side maps is shown on the right. The light yellows shows the farside image.  The scale is such that dark colors are travel-time reductions that are of order ten seconds.  The darker yellow shows the magnetograms measured on the visible part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is already in regular use for space weather prediction, as it allows you to tell when a large active region will rotate onto the visible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ral question of sunspot seismology is: what is the subsurface structure of sunsp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ubject has a long history, and has been an important part of local helioseismology from the beginning of th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important milestones w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ion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kel analysis of the absorption and phase shift of waves by 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ce studies of 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-diagram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seismology is a hard problem;  theory and simulations shows that the interaction of waves with sunspots is a complicated.  looking at the schedule today, it seems like we will hear a lot about this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igure is a comparison of inferences about sunspot structure from some different models and local helioseismic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dels that are magnetic, this models shows the fractional change in the fast-mode speed relative to quiet Sun as a function of depth.  For models that are not magnetic, it shows the fractional change in the sound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red curves are magnetic and non-magnetic models that were based on fitting hankel analysis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urve is from a ring-diagram analysis inver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id blue is from a time-distance inver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shed blue is from the model which is shown to fit a set of time distance measu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ck curve is the structure from the realistc magnetoconvection simulation that I showed earl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the models show a strong increase in the wave speed in the near surface.  In the magnetic models, this 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ombination of the magnetic field with the low density in the sunsp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think that this figure should be taken as a argument for physics by democracy.  However, it certainly seems like there is an issue here, and the difference between the time-distance results and the other should be understood.  Looking at the schedule, it seems that we will hear a lot about this issue late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I should mention that this issue is discussed in the poster by Mora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ridional flow changes throughout the solar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igures shows a composite to ring-diagram and time-distance measurements of the near surface meridional 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816-5EA9-4A7C-9C4A-B701B608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806-1128-40F4-869F-B446878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507-F9CD-4980-A058-B43597CE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BDF-BC2B-4234-A012-FFC7CFF2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3AE-567D-414B-B195-371BB09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99B-F9B2-4B31-8167-6911D98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1AB-8963-46AB-B0FC-BE6CF54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DC1-FD7A-4FF0-8795-214A7029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745-432F-419F-AB4D-DDFF774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48E-70F2-440A-ACCA-9FCC567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75D-F7A4-4D5C-922F-5A76B80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1A9-E3B2-42F3-88E6-C0ED802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e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e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e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420-428F-45FD-8C3A-CE6FCCBC7C22}" type="slidenum">
              <a:rPr b="0" lang="en-US" sz="1400" spc="-1" strike="noStrike">
                <a:solidFill>
                  <a:srgbClr val="ffe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Local Helioseismology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Aaron Birch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NWRA, CoRA Division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Ring-diagram Analysis</a:t>
            </a:r>
            <a:br>
              <a:rPr sz="4400"/>
            </a:b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(Hill 1988)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Extend ideas of global helioseismology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Select small patch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Track at rate near solar rotation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Measure and fit local power spectra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Invert to infer local propertie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6729" t="8343" r="8670" b="0"/>
          <a:stretch/>
        </p:blipFill>
        <p:spPr>
          <a:xfrm>
            <a:off x="762120" y="685800"/>
            <a:ext cx="670536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5480" y="62485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Hill 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0"/>
            <a:ext cx="527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local power spectrum P(k</a:t>
            </a:r>
            <a:r>
              <a:rPr b="0" lang="en-US" sz="3200" spc="-1" strike="noStrike" baseline="-25000">
                <a:solidFill>
                  <a:srgbClr val="ffe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,k</a:t>
            </a:r>
            <a:r>
              <a:rPr b="0" lang="en-US" sz="3200" spc="-1" strike="noStrike" baseline="-25000">
                <a:solidFill>
                  <a:srgbClr val="ffe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,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2367000"/>
            <a:ext cx="8610480" cy="3957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76520" y="19051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ing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7960" y="19051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lice at constant |k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Example: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5105160" cy="836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9040" y="63673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zon, Birch, &amp; Spruit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Time-distance Helioseismology</a:t>
            </a:r>
            <a:br>
              <a:rPr sz="4400"/>
            </a:b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(Duvall et al. 1993)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Measure time for waves to travel from any point on the solar surface to any other point.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Cross-covariance: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3911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7960" y="228600"/>
            <a:ext cx="4486320" cy="6095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3943440" cy="3736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1680" y="6138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zon, Birch, &amp; Spruit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914400" y="1676520"/>
            <a:ext cx="6095880" cy="4876560"/>
            <a:chOff x="914400" y="1676520"/>
            <a:chExt cx="6095880" cy="48765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60958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132720" y="5259600"/>
              <a:ext cx="192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41dc7"/>
                  </a:solidFill>
                  <a:latin typeface="Arial"/>
                </a:rPr>
                <a:t>Bl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no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0117"/>
                  </a:solidFill>
                  <a:latin typeface="Arial"/>
                </a:rPr>
                <a:t>R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 1 km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48280" y="806400"/>
            <a:ext cx="429840" cy="738720"/>
            <a:chOff x="5048280" y="806400"/>
            <a:chExt cx="429840" cy="738720"/>
          </a:xfrm>
        </p:grpSpPr>
        <p:sp>
          <p:nvSpPr>
            <p:cNvPr id="91" name=""/>
            <p:cNvSpPr/>
            <p:nvPr/>
          </p:nvSpPr>
          <p:spPr>
            <a:xfrm>
              <a:off x="5056560" y="10350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ef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e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48280" y="806400"/>
              <a:ext cx="228600" cy="228600"/>
            </a:xfrm>
            <a:prstGeom prst="ellipse">
              <a:avLst/>
            </a:prstGeom>
            <a:solidFill>
              <a:srgbClr val="ffe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806400"/>
            <a:ext cx="429840" cy="738720"/>
            <a:chOff x="2286000" y="806400"/>
            <a:chExt cx="429840" cy="738720"/>
          </a:xfrm>
        </p:grpSpPr>
        <p:sp>
          <p:nvSpPr>
            <p:cNvPr id="94" name=""/>
            <p:cNvSpPr/>
            <p:nvPr/>
          </p:nvSpPr>
          <p:spPr>
            <a:xfrm>
              <a:off x="2294280" y="10350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ef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e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806400"/>
              <a:ext cx="228600" cy="228600"/>
            </a:xfrm>
            <a:prstGeom prst="ellipse">
              <a:avLst/>
            </a:prstGeom>
            <a:solidFill>
              <a:srgbClr val="ffe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95480" y="882720"/>
            <a:ext cx="1828800" cy="0"/>
          </a:xfrm>
          <a:prstGeom prst="line">
            <a:avLst/>
          </a:prstGeom>
          <a:ln w="57240">
            <a:solidFill>
              <a:srgbClr val="ffe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308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533520"/>
            <a:ext cx="1828800" cy="0"/>
          </a:xfrm>
          <a:prstGeom prst="line">
            <a:avLst/>
          </a:prstGeom>
          <a:ln w="57240">
            <a:solidFill>
              <a:srgbClr val="ffe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219320"/>
            <a:ext cx="1828800" cy="0"/>
          </a:xfrm>
          <a:prstGeom prst="line">
            <a:avLst/>
          </a:prstGeom>
          <a:ln w="57240">
            <a:solidFill>
              <a:srgbClr val="ffe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598" b="0"/>
          <a:stretch/>
        </p:blipFill>
        <p:spPr>
          <a:xfrm>
            <a:off x="228600" y="152280"/>
            <a:ext cx="8434440" cy="580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6240" y="606600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Duvall et al.,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imulat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Why do we need simulations ?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ome important problems are likely to cause trouble for linear perturbation theory: e.g. sunspot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Useful for generating synthetic data for testing purpose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Classes of Simulat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Realistic” Convection / Magnetoconvection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Examples: Stein et al., Vogler et al., Rempel et al.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Treat as much physics as possible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Waves and convection are self-consistent 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Computationally expensive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Linear wave propagation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Examples: Cameron et al., Hanasoge et al., Parchevsky et al.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Computationally efficient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What is local helioseismology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cience questions 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Input data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olar oscillation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Methods of local helioseismology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ing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Time-distance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imulation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Main result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Meridional flow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Farside imaging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unspot seismology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Macintosh HD:Users:aaronb:Desktop:SOHO_GONG_2010:ic_B_helio_slow.mpg" descr=""/>
          <p:cNvPicPr/>
          <p:nvPr/>
        </p:nvPicPr>
        <p:blipFill>
          <a:blip r:embed="rId1"/>
          <a:stretch/>
        </p:blipFill>
        <p:spPr>
          <a:xfrm>
            <a:off x="2031840" y="482760"/>
            <a:ext cx="5080320" cy="589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40" y="3803760"/>
            <a:ext cx="18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empel et al.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acintosh HD:Users:aaronb:Desktop:SOHO_GONG_2010:p1_inclined.mov" descr=""/>
          <p:cNvPicPr/>
          <p:nvPr/>
        </p:nvPicPr>
        <p:blipFill>
          <a:blip r:embed="rId1"/>
          <a:stretch/>
        </p:blipFill>
        <p:spPr>
          <a:xfrm>
            <a:off x="23623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360" y="281160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Cameron et al.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ome Result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Meridional flow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Farside imaging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unspot seismology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Meridional Flow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939" t="0" r="0" b="0"/>
          <a:stretch/>
        </p:blipFill>
        <p:spPr>
          <a:xfrm>
            <a:off x="5181480" y="1219320"/>
            <a:ext cx="3810240" cy="371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400" y="6149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les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9360" y="6053040"/>
            <a:ext cx="41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792 days of medium-l MDI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Assume mas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90860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924680" cy="4195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olar-cycle variat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120" y="5410080"/>
            <a:ext cx="461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Figure: Gizon, Birch, &amp; Spruit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TD: Gizon &amp; Rempe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D: González-Hernández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5913" t="4682" r="4434" b="11027"/>
          <a:stretch/>
        </p:blipFill>
        <p:spPr>
          <a:xfrm>
            <a:off x="380880" y="923760"/>
            <a:ext cx="8458200" cy="5019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Farside imaging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6172200"/>
            <a:ext cx="74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Lindsey &amp; Braun 2000, Braun &amp; Lindsey 2001, Zhao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unspot Seismology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What is the subsurface structure of sunspots ? 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Long history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First suggested by Thomas et al. 1982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Hankel analysis (Braun et al. 1992, Braun 1995, …)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Time-distance (Kosovichev 1996, Jensen et al. 2001, and many others)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Ring-diagram analysis (Basu et al. 2004, ….)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This is a hard problem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unspot Structure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758880"/>
            <a:ext cx="6400800" cy="5032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2160" y="632448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ee Poster by Moradi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6248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Moradi et al.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High-quality data 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Many measurement tool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Forward models: rays, Born approx., simulation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Inversion methods exist for linear problem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There are still major challenge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Sunspot seismology (structure &amp; flows)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Deep meridional flow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Detection of rising flux tubes (?)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ome Resource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HMI: hmi.stanford.edu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ONG: gong.nso.edu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MDI: soi.stanford.edu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HELAS local helioseismology: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www.mps.mpg.de/projects/seismo/NA4/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eviews: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Kosovichev &amp; Duvall 1997, SCORe’96 Proceeding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Christensen-Dalsgaard 2000, Rev Mod Physic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zon &amp; Birch, 2005, Living Review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zon, Birch, &amp; Spruit, 2010, ARAA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Acknowledgements: Support from NASA contracts </a:t>
            </a: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NNH06CD84C, NNH07CD25C, and NNH09CE41C 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Local Helioseismology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A set of methods for imaging the solar interior in three dimensions. 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Why do we want to do this ?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unspots: moat flow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4416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2400" y="52578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Gizon et al.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Jackiewicz et al.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Constraint on Convection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35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61628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Hanasoge &amp; Duval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00"/>
                </a:solidFill>
                <a:latin typeface="Times New Roman"/>
              </a:rPr>
              <a:t>Time-Distance Helioseismology</a:t>
            </a:r>
            <a:endParaRPr b="0" lang="en-US" sz="36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7807" t="0" r="5717" b="15927"/>
          <a:stretch/>
        </p:blipFill>
        <p:spPr>
          <a:xfrm>
            <a:off x="457200" y="1077840"/>
            <a:ext cx="7696080" cy="5780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39116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Linear forward models: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Ray approximation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Born approximation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Linear inverse problems are manageable, even in 3D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5560" y="589608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** kernel figure goes here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hravan slide goes here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Meridional Flow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265752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ome Science Question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Test dynamo models: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meridional flow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torsional oscillation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flows around active region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rising flux tubes ?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others …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Magnetoconvection: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stability / anchoring / structure of sunspots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interior - atmosphere coupling</a:t>
            </a:r>
            <a:endParaRPr b="0" lang="en-US" sz="2400" spc="-1" strike="noStrike">
              <a:solidFill>
                <a:srgbClr val="ffe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00"/>
                </a:solidFill>
                <a:latin typeface="Times New Roman"/>
              </a:rPr>
              <a:t>Tachocline dynamics</a:t>
            </a: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Input data : Dopplergram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629400" cy="591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64832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H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+/- 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Dopplergram movie: MDI hi-re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61" name="Macintosh HD:Users:aaronb:Desktop:SOHO_GONG_2010:hr_V_sm.mpg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518148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8960" y="6248520"/>
            <a:ext cx="63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second cadence, 35 minute duration, 220x22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Some sources of data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f00"/>
                </a:solidFill>
                <a:latin typeface="Times New Roman"/>
              </a:rPr>
              <a:t>MDI/SOHO:</a:t>
            </a:r>
            <a:endParaRPr b="0" lang="en-US" sz="20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00"/>
                </a:solidFill>
                <a:latin typeface="Times New Roman"/>
              </a:rPr>
              <a:t>Space-based telescope. Continuous medium-resolution data, occasional campaigns at higher resolution</a:t>
            </a:r>
            <a:endParaRPr b="0" lang="en-US" sz="1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f00"/>
                </a:solidFill>
                <a:latin typeface="Times New Roman"/>
              </a:rPr>
              <a:t>GONG:</a:t>
            </a:r>
            <a:endParaRPr b="0" lang="en-US" sz="20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00"/>
                </a:solidFill>
                <a:latin typeface="Times New Roman"/>
              </a:rPr>
              <a:t>Network of telescopes.  Always at least one sees the Sun.  Medium resolution.  </a:t>
            </a:r>
            <a:endParaRPr b="0" lang="en-US" sz="1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f00"/>
                </a:solidFill>
                <a:latin typeface="Times New Roman"/>
              </a:rPr>
              <a:t>Hinode SOT:</a:t>
            </a:r>
            <a:endParaRPr b="0" lang="en-US" sz="20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00"/>
                </a:solidFill>
                <a:latin typeface="Times New Roman"/>
              </a:rPr>
              <a:t>Space-based. High resolution, small field of view</a:t>
            </a:r>
            <a:endParaRPr b="0" lang="en-US" sz="1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00"/>
                </a:solidFill>
                <a:latin typeface="Times New Roman"/>
              </a:rPr>
              <a:t>HMI/SDO:</a:t>
            </a:r>
            <a:endParaRPr b="0" lang="en-US" sz="1800" spc="-1" strike="noStrike">
              <a:solidFill>
                <a:srgbClr val="ffef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e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00"/>
                </a:solidFill>
                <a:latin typeface="Times New Roman"/>
              </a:rPr>
              <a:t>Space based.  High resolution, high cadence, full disk coverage</a:t>
            </a:r>
            <a:endParaRPr b="0" lang="en-US" sz="18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f00"/>
                </a:solidFill>
                <a:latin typeface="Times New Roman"/>
              </a:rPr>
              <a:t>TON</a:t>
            </a:r>
            <a:endParaRPr b="0" lang="en-US" sz="20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f00"/>
                </a:solidFill>
                <a:latin typeface="Times New Roman"/>
              </a:rPr>
              <a:t>MOTH: Multi-height observations</a:t>
            </a:r>
            <a:endParaRPr b="0" lang="en-US" sz="20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Power spectrum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9237" t="1854" r="6842" b="9260"/>
          <a:stretch/>
        </p:blipFill>
        <p:spPr>
          <a:xfrm>
            <a:off x="990720" y="685800"/>
            <a:ext cx="45036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40120" y="48006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f00"/>
                </a:solidFill>
                <a:latin typeface="Times New Roman"/>
              </a:rPr>
              <a:t>M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f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e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Ring-diagram analysi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Time-distance helioseismology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e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00"/>
                </a:solidFill>
                <a:latin typeface="Times New Roman"/>
              </a:rPr>
              <a:t>Simulations</a:t>
            </a:r>
            <a:endParaRPr b="0" lang="en-US" sz="3200" spc="-1" strike="noStrike">
              <a:solidFill>
                <a:srgbClr val="ffe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1:41:44Z</dcterms:created>
  <dc:creator>Aaron Birch</dc:creator>
  <dc:description/>
  <dc:language>en-US</dc:language>
  <cp:lastModifiedBy>Aaron Birch</cp:lastModifiedBy>
  <dcterms:modified xsi:type="dcterms:W3CDTF">2010-06-28T05:48:28Z</dcterms:modified>
  <cp:revision>597</cp:revision>
  <dc:subject/>
  <dc:title>Local Helioseismology</dc:title>
</cp:coreProperties>
</file>